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5440" cy="375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8B21-E237-46FD-90A9-3506167D714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ço Reservado para Número de Slide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4830-9E7F-482A-AD4C-01693056606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ço Reservado para Número de Slide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1B06-654D-4283-8E5C-1E0A0D767B0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ço Reservado para Número de Slide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581D-3BB5-4346-88E6-9FF4293ED8E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ço Reservado para Número de Slide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BD3B-DB45-49C7-A2A8-A50CBA20F38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ço Reservado para Número de Slide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9C8E-D9C0-42D4-A3AF-3D2107139AA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ço Reservado para Número de Slide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4B12-8877-4D8A-B21A-BF3A4CAD6DD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9A991-A028-4673-BA88-7C1D50BBF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2DE93-7DD8-4805-B859-609F2E312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E436E-F814-4554-83C0-D40100796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DDDC7-6D07-4610-8897-8D4911AFA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26061-BCED-42AB-A72E-6E5928BCE9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EE992-34FF-4A09-85F9-E2692EACE5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E0B03-123C-4558-88C3-B91D79D4C5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29276-9803-411C-B429-5DBECEFD68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423F4-CE09-4176-86C2-801E97140A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-31680"/>
            <a:ext cx="91440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2C68D-D631-4DF0-B123-93108A44A4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A0374-2BE7-4275-BAC6-593F647E49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46CB5-6035-4DBE-802F-C48830EF4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021B5-FFED-4678-9966-1C65886E99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68EBE-3EDB-4D68-A0C3-FFA4CF5A48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EA00F-88FF-4549-864A-4415FA4FA9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8C6A6-8424-4D87-B784-EA7C0D3DE6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4ABD3-326C-455C-93D7-64AB31A7F4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2EEC4-EC31-4FE9-8D34-50CA96AC0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A6950-9F2C-415B-A1C4-46302F5E2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DA3E7-61C8-425B-8ACD-5A5978A50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1680"/>
            <a:ext cx="91440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19E30-29D1-49CC-8BBE-AFE636B8E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06BE2-0971-45CB-AC99-42B8CABE2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8A748-DEA6-4203-8B0F-C7BAECDDC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CC079-D9A5-447A-BDCA-CF2EF1211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1440" y="6408720"/>
            <a:ext cx="9144000" cy="47628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192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408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C128-8F79-4666-B2A5-5C74B6C51F9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1440" y="6408720"/>
            <a:ext cx="9144000" cy="47628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aixaDeTexto 7"/>
          <p:cNvSpPr/>
          <p:nvPr/>
        </p:nvSpPr>
        <p:spPr>
          <a:xfrm>
            <a:off x="3643560" y="6500880"/>
            <a:ext cx="186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00000"/>
                </a:solidFill>
                <a:latin typeface="Arial"/>
              </a:rPr>
              <a:t>Versão para Discus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1920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2720" y="650052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3BB5-9496-455F-8427-8EB20BC37B52}" type="slidenum">
              <a:rPr b="1" lang="en-US" sz="1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0000"/>
                </a:solidFill>
                <a:latin typeface="Arial"/>
              </a:rPr>
              <a:t>Matrizes Origem-Destino (OD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041280"/>
            <a:ext cx="64008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cedimento para montagem de matrizes OD com total de carga (toneladas) e total para categorias de prod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tângulo 3"/>
          <p:cNvSpPr/>
          <p:nvPr/>
        </p:nvSpPr>
        <p:spPr>
          <a:xfrm>
            <a:off x="2374920" y="0"/>
            <a:ext cx="31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rredor Bioceâ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ixaDeTexto 4"/>
          <p:cNvSpPr/>
          <p:nvPr/>
        </p:nvSpPr>
        <p:spPr>
          <a:xfrm>
            <a:off x="3006720" y="5929200"/>
            <a:ext cx="288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7f7f7f"/>
                </a:solidFill>
                <a:latin typeface="Arial"/>
              </a:rPr>
              <a:t>São Paulo, 16 de março de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aixaDeTexto 5"/>
          <p:cNvSpPr/>
          <p:nvPr/>
        </p:nvSpPr>
        <p:spPr>
          <a:xfrm>
            <a:off x="2655000" y="475308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990000"/>
                </a:solidFill>
                <a:uFillTx/>
                <a:latin typeface="Arial"/>
              </a:rPr>
              <a:t>Versão para Discu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033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peamento dos principais pólos de geração/atração de dema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78588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064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 mapeamento dos principais pólos de geração e atração de demanda está sendo feito através de análise dos principais produtos de exportação e importação dos países do zoneamento atua, identificando as principais regiões de produção e consumo de cada paí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ço Reservado para Número de Slide 3"/>
          <p:cNvSpPr/>
          <p:nvPr/>
        </p:nvSpPr>
        <p:spPr>
          <a:xfrm>
            <a:off x="6553080" y="65008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AD63-671F-41B9-AA59-9718B86D23CC}" type="slidenum">
              <a:rPr b="1" lang="en-US" sz="1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42960" y="1906560"/>
          <a:ext cx="8001000" cy="4129200"/>
        </p:xfrm>
        <a:graphic>
          <a:graphicData uri="http://schemas.openxmlformats.org/drawingml/2006/table">
            <a:tbl>
              <a:tblPr/>
              <a:tblGrid>
                <a:gridCol w="714240"/>
                <a:gridCol w="1785960"/>
                <a:gridCol w="1000080"/>
                <a:gridCol w="785880"/>
                <a:gridCol w="2038320"/>
                <a:gridCol w="990720"/>
                <a:gridCol w="685800"/>
              </a:tblGrid>
              <a:tr h="190440"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8b5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dade </a:t>
                      </a:r>
                      <a:br>
                        <a:rPr sz="12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il tonelad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8b5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dade </a:t>
                      </a:r>
                      <a:br>
                        <a:rPr sz="12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il tonelad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8b5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8b54"/>
                    </a:solidFill>
                  </a:tcPr>
                </a:tc>
              </a:tr>
              <a:tr h="597240">
                <a:tc row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ERIOS,ESCORIAS E CI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USTIVEIS MINERAIS,OLEOS MINERAIS,ETC.CERAS MINER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69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3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DEIRA,CARVAO VEGETAL E OBRAS DE MADEI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TOS QUIMICOS INORGANICOS,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5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,ENXOFRE,TERRAS E PEDRAS,GESSO,CAL E CI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95440">
                <a:tc row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2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USTIVEIS MINERAIS,OLEOS MINERAIS,ETC.CERAS MINER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</a:tr>
              <a:tr h="59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UOS E DESPERDICIOS DAS INDUSTRIAS ALIMENTARES,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3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ERIOS,ESCORIAS E CI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5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</a:tr>
              <a:tr h="66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ENTES E FRUTOS OLEAGINOSOS,GRAOS, SEMENTES,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ENTES E FRUTOS OLEAGINOSOS,GRAOS, SEMENTES,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033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 zoneamento precisa representar os principais fluxos – Ex: Chile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ço Reservado para Número de Slide 3"/>
          <p:cNvSpPr/>
          <p:nvPr/>
        </p:nvSpPr>
        <p:spPr>
          <a:xfrm>
            <a:off x="6553080" y="65008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45B7-1FC1-4AF5-AAE8-585C7E41211E}" type="slidenum">
              <a:rPr b="1" lang="en-US" sz="1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00040" y="857160"/>
          <a:ext cx="5929200" cy="2397240"/>
        </p:xfrm>
        <a:graphic>
          <a:graphicData uri="http://schemas.openxmlformats.org/drawingml/2006/table">
            <a:tbl>
              <a:tblPr/>
              <a:tblGrid>
                <a:gridCol w="482760"/>
                <a:gridCol w="457200"/>
                <a:gridCol w="1774800"/>
                <a:gridCol w="1393560"/>
                <a:gridCol w="1033560"/>
                <a:gridCol w="787320"/>
              </a:tblGrid>
              <a:tr h="1922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rt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um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2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l tonelad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</a:tr>
              <a:tr h="712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ERIOS,ESCORIAS E CI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EL SÓLIDO MINE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557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IRA,CARVAO VEGETAL E OBRAS DE MADEI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GA GE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,ENXOFRE,TERRAS E PEDRAS,GESSO,CAL E CI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EL SÓLIDO - OUTR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00040" y="3745080"/>
          <a:ext cx="5929200" cy="2076120"/>
        </p:xfrm>
        <a:graphic>
          <a:graphicData uri="http://schemas.openxmlformats.org/drawingml/2006/table">
            <a:tbl>
              <a:tblPr/>
              <a:tblGrid>
                <a:gridCol w="482760"/>
                <a:gridCol w="457200"/>
                <a:gridCol w="1774800"/>
                <a:gridCol w="1392120"/>
                <a:gridCol w="1035000"/>
                <a:gridCol w="787320"/>
              </a:tblGrid>
              <a:tr h="2095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um </a:t>
                      </a:r>
                      <a:br>
                        <a:rPr sz="1200"/>
                      </a:br>
                      <a:r>
                        <a:rPr b="0" i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l tonelad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be97"/>
                    </a:solidFill>
                  </a:tcPr>
                </a:tc>
              </a:tr>
              <a:tr h="739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1dec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USTIVEIS MINERAIS,OLEOS MINERAIS,ETC.CERAS MINER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1dec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EL LÍQUIDO - PETRÓLEO E DERIVAD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1dec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.69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1dec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1dec9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1dec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TOS QUIMICOS INORGANICOS,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1dec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EL LÍQUIDO - OUTR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1dec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1dec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1dec9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dec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dec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EL SÓLIDO VEGE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dec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dec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dec9"/>
                    </a:solidFill>
                  </a:tcPr>
                </a:tc>
              </a:tr>
            </a:tbl>
          </a:graphicData>
        </a:graphic>
      </p:graphicFrame>
      <p:sp>
        <p:nvSpPr>
          <p:cNvPr id="164" name="CaixaDeTexto 9"/>
          <p:cNvSpPr/>
          <p:nvPr/>
        </p:nvSpPr>
        <p:spPr>
          <a:xfrm>
            <a:off x="6525720" y="1285920"/>
            <a:ext cx="27057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ara cada país será feit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álise dos principais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odutos de comércio exteri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álise espacial da população 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 do PIB (onde houver dados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sagreg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álise espacial dos principais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ocais de produção  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groindustrial e industrial</a:t>
            </a: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033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hile – Zoneamento proposto: 7 zonas (2 portos + 5 zon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Espaço Reservado para Conteúdo 4" descr="NOVAS ZONAS CHILE.jpg"/>
          <p:cNvPicPr/>
          <p:nvPr/>
        </p:nvPicPr>
        <p:blipFill>
          <a:blip r:embed="rId1"/>
          <a:stretch/>
        </p:blipFill>
        <p:spPr>
          <a:xfrm>
            <a:off x="428760" y="642960"/>
            <a:ext cx="8159760" cy="5769000"/>
          </a:xfrm>
          <a:prstGeom prst="rect">
            <a:avLst/>
          </a:prstGeom>
          <a:ln w="0">
            <a:noFill/>
          </a:ln>
        </p:spPr>
      </p:pic>
      <p:sp>
        <p:nvSpPr>
          <p:cNvPr id="167" name="Espaço Reservado para Número de Slide 3"/>
          <p:cNvSpPr/>
          <p:nvPr/>
        </p:nvSpPr>
        <p:spPr>
          <a:xfrm>
            <a:off x="6553080" y="65008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C4F3-C974-4C62-B947-002865774921}" type="slidenum">
              <a:rPr b="1" lang="en-US" sz="1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eta para a esquerda 5"/>
          <p:cNvSpPr/>
          <p:nvPr/>
        </p:nvSpPr>
        <p:spPr>
          <a:xfrm>
            <a:off x="2428920" y="2857680"/>
            <a:ext cx="500040" cy="214200"/>
          </a:xfrm>
          <a:prstGeom prst="leftArrow">
            <a:avLst>
              <a:gd name="adj1" fmla="val 50000"/>
              <a:gd name="adj2" fmla="val 50029"/>
            </a:avLst>
          </a:prstGeom>
          <a:solidFill>
            <a:srgbClr val="7575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aixaDeTexto 6"/>
          <p:cNvSpPr/>
          <p:nvPr/>
        </p:nvSpPr>
        <p:spPr>
          <a:xfrm>
            <a:off x="857160" y="278604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gião do Atacama será agreg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033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: Argentina – principais produtos de comércio exteri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ço Reservado para Número de Slide 3"/>
          <p:cNvSpPr/>
          <p:nvPr/>
        </p:nvSpPr>
        <p:spPr>
          <a:xfrm>
            <a:off x="6553080" y="65008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B44C-C94D-4CA2-B482-7C008E24F2D1}" type="slidenum">
              <a:rPr b="1" lang="en-US" sz="1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28760" y="714240"/>
          <a:ext cx="6072120" cy="2673360"/>
        </p:xfrm>
        <a:graphic>
          <a:graphicData uri="http://schemas.openxmlformats.org/drawingml/2006/table">
            <a:tbl>
              <a:tblPr/>
              <a:tblGrid>
                <a:gridCol w="642960"/>
                <a:gridCol w="571320"/>
                <a:gridCol w="1500120"/>
                <a:gridCol w="1143000"/>
                <a:gridCol w="1285920"/>
                <a:gridCol w="928800"/>
              </a:tblGrid>
              <a:tr h="1922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dade </a:t>
                      </a:r>
                      <a:br>
                        <a:rPr sz="12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il tonelad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</a:tr>
              <a:tr h="76212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EL SÓLIDO VEGE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2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UOS E DESPERDICIOS DAS INDUSTRIAS ALIMENTARES,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EL SÓLIDO VEGE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3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58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ENTES E FRUTOS OLEAGINOSOS,GRAOS,SEMENTES,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EL SÓLIDO VEGE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28760" y="3571920"/>
          <a:ext cx="6072120" cy="2687760"/>
        </p:xfrm>
        <a:graphic>
          <a:graphicData uri="http://schemas.openxmlformats.org/drawingml/2006/table">
            <a:tbl>
              <a:tblPr/>
              <a:tblGrid>
                <a:gridCol w="642960"/>
                <a:gridCol w="571320"/>
                <a:gridCol w="1500120"/>
                <a:gridCol w="1143000"/>
                <a:gridCol w="1285920"/>
                <a:gridCol w="928800"/>
              </a:tblGrid>
              <a:tr h="1918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8b5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8b5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8b5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u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8b5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dade </a:t>
                      </a:r>
                      <a:br>
                        <a:rPr sz="12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il tonelad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8b5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8b54"/>
                    </a:solidFill>
                  </a:tcPr>
                </a:tc>
              </a:tr>
              <a:tr h="76212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USTIVEIS MINERAIS,OLEOS MINERAIS,ETC.CERAS MINER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EL LÍQUIDO - PETRÓLEO E DERIVAD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ERIOS,ESCORIAS E CI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EL SÓLIDO MINE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5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</a:tr>
              <a:tr h="58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ENTES E FRUTOS OLEAGINOSOS,GRAOS,SEMENTES,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EL SÓLIDO VEGE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m 5" descr="ARG_PIB %.jpg"/>
          <p:cNvPicPr/>
          <p:nvPr/>
        </p:nvPicPr>
        <p:blipFill>
          <a:blip r:embed="rId1"/>
          <a:srcRect l="14532" t="4736" r="7430" b="5977"/>
          <a:stretch/>
        </p:blipFill>
        <p:spPr>
          <a:xfrm>
            <a:off x="3571920" y="1851120"/>
            <a:ext cx="5572080" cy="45068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033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: Argentina – distribuição espacial da População e PI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ço Reservado para Número de Slide 3"/>
          <p:cNvSpPr/>
          <p:nvPr/>
        </p:nvSpPr>
        <p:spPr>
          <a:xfrm>
            <a:off x="6553080" y="65008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C52F-10EA-405C-8043-6CB0B8045039}" type="slidenum">
              <a:rPr b="1" lang="en-US" sz="1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Espaço Reservado para Conteúdo 4" descr="ARG_POPULAÇÃO RESIDENTE 2008.jpg"/>
          <p:cNvPicPr/>
          <p:nvPr/>
        </p:nvPicPr>
        <p:blipFill>
          <a:blip r:embed="rId2"/>
          <a:srcRect l="18666" t="4319" r="7909" b="7146"/>
          <a:stretch/>
        </p:blipFill>
        <p:spPr>
          <a:xfrm>
            <a:off x="142920" y="571680"/>
            <a:ext cx="4572000" cy="389700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sp>
        <p:nvSpPr>
          <p:cNvPr id="179" name="CaixaDeTexto 6"/>
          <p:cNvSpPr/>
          <p:nvPr/>
        </p:nvSpPr>
        <p:spPr>
          <a:xfrm>
            <a:off x="5017680" y="1000080"/>
            <a:ext cx="36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opulação residente da Argentina (20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eta para a direita 7"/>
          <p:cNvSpPr/>
          <p:nvPr/>
        </p:nvSpPr>
        <p:spPr>
          <a:xfrm>
            <a:off x="4857840" y="1071720"/>
            <a:ext cx="214200" cy="21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033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 Argentina: Exportações da Argentina 2008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Espaço Reservado para Conteúdo 4" descr="ARG_EXPORTAÇÕES.jpg"/>
          <p:cNvPicPr/>
          <p:nvPr/>
        </p:nvPicPr>
        <p:blipFill>
          <a:blip r:embed="rId1"/>
          <a:srcRect l="0" t="2419" r="0" b="2078"/>
          <a:stretch/>
        </p:blipFill>
        <p:spPr>
          <a:xfrm>
            <a:off x="357120" y="571680"/>
            <a:ext cx="8358120" cy="5643360"/>
          </a:xfrm>
          <a:prstGeom prst="rect">
            <a:avLst/>
          </a:prstGeom>
          <a:ln w="0">
            <a:noFill/>
          </a:ln>
        </p:spPr>
      </p:pic>
      <p:sp>
        <p:nvSpPr>
          <p:cNvPr id="183" name="Espaço Reservado para Número de Slide 3"/>
          <p:cNvSpPr/>
          <p:nvPr/>
        </p:nvSpPr>
        <p:spPr>
          <a:xfrm>
            <a:off x="6553080" y="65008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C128-FFC5-4E77-86DB-24B8EC6AE4AE}" type="slidenum">
              <a:rPr b="1" lang="en-US" sz="1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tângulo 5"/>
          <p:cNvSpPr/>
          <p:nvPr/>
        </p:nvSpPr>
        <p:spPr>
          <a:xfrm>
            <a:off x="579600" y="6183360"/>
            <a:ext cx="136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INDEC (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033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gentina – Zoneamento proposto: 7 zonas (2 portos + 5 zon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ço Reservado para Número de Slide 3"/>
          <p:cNvSpPr/>
          <p:nvPr/>
        </p:nvSpPr>
        <p:spPr>
          <a:xfrm>
            <a:off x="6553080" y="65008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6C7F-3593-41BA-A3F5-0A5720D0DFC9}" type="slidenum">
              <a:rPr b="1" lang="en-US" sz="1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Espaço Reservado para Conteúdo 6" descr="NOVAS ZONAS ARGENTINA.jpg"/>
          <p:cNvPicPr/>
          <p:nvPr/>
        </p:nvPicPr>
        <p:blipFill>
          <a:blip r:embed="rId1"/>
          <a:stretch/>
        </p:blipFill>
        <p:spPr>
          <a:xfrm>
            <a:off x="642960" y="785880"/>
            <a:ext cx="7786800" cy="5505480"/>
          </a:xfrm>
          <a:prstGeom prst="rect">
            <a:avLst/>
          </a:prstGeom>
          <a:ln w="0">
            <a:noFill/>
          </a:ln>
        </p:spPr>
      </p:pic>
      <p:sp>
        <p:nvSpPr>
          <p:cNvPr id="188" name="CaixaDeTexto 7"/>
          <p:cNvSpPr/>
          <p:nvPr/>
        </p:nvSpPr>
        <p:spPr>
          <a:xfrm>
            <a:off x="3979800" y="5786280"/>
            <a:ext cx="436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orto de Rosario e Porto de Buenos Aires também são zo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nex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033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cedimento para preenchimento das células da matriz 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857160"/>
            <a:ext cx="840096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 procedimento adotado para preencher as células da Matriz de Total de Carga entre os pares OD fo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326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nsere os dados do Aliceweb e Alice Mercosul  nas respectivas células da matriz  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326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nsere os dados de total de controle do BID (EXP e IM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326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nsere os dados de EXP do BID por par OD nas respectivas células da matriz  OD (colunas da matri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326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para com os respectivos totais de controle de IMP do BID (linhas da matri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14760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e os dados estiverem compatíveis, mantém-se os dados de EXP do B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14760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e houver discrepânc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14760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az  análise de consistência entre as informações de EXP e IMP do BID e com outras fontes de dados secundários (estatísticas portuárias e de comércio exterior dos paíse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14760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ubstitui os dados dos pares OD com discrepância e avalia se estão compatíveis em EXP e IM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3264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ço Reservado para Número de Slide 3"/>
          <p:cNvSpPr/>
          <p:nvPr/>
        </p:nvSpPr>
        <p:spPr>
          <a:xfrm>
            <a:off x="6553080" y="65008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A504-F6D0-4867-805B-697BD7AF3D2A}" type="slidenum">
              <a:rPr b="1" lang="en-US" sz="1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033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ritérios para dividir EUA, Canadá e México em “Leste” e “Oest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7855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U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778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btenção de estatísticas portuárias da costa leste dos E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778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btenção de estatísticas  portuárias da costa oeste dos E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778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álculo do % da costa leste e da costa oeste em relação ao total - Esse foi o percentual adotado para dividir o total de toneladas entre as zonas da costa leste e oe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22440" indent="-17784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OBS: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s portos localizados no Golfo do México foram agregados na “Costa Leste”. Os portos de Houston (Texas) e South Louisiana (Lousiana) são os dois maiores portos dos EUA em total de toneladas de carga e total de toneladas de comércio ext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22440" indent="-17784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anadá e Méxic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778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btenção de estatísticas portuárias dos portos do Atlân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778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btenção de estatísticas  portuárias dos portos do Pacíf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2440" indent="-1778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álculo do % dos portos do Atlântico e do Pacífico em relação ao total - Esse foi o percentual adotado para dividir o total de toneladas entre as zonas do leste e oe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ço Reservado para Número de Slide 3"/>
          <p:cNvSpPr/>
          <p:nvPr/>
        </p:nvSpPr>
        <p:spPr>
          <a:xfrm>
            <a:off x="6553080" y="65008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5623-5CB7-409B-AD1A-87985F1F2587}" type="slidenum">
              <a:rPr b="1" lang="en-US" sz="1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033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11426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luxos relevantes para o corredor bioceâ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imativa da Matriz OD com Total de Carga (tonelad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agregação da Matriz OD Total: Matrizes por tipo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retriz para o zoneamento: principais pólos de produção e consu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spaço Reservado para Número de Slide 3"/>
          <p:cNvSpPr/>
          <p:nvPr/>
        </p:nvSpPr>
        <p:spPr>
          <a:xfrm>
            <a:off x="6553080" y="65008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6AC8-F618-44EB-87A9-E045AC1FCBD0}" type="slidenum">
              <a:rPr b="1" lang="en-US" sz="1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eta para a direita 5"/>
          <p:cNvSpPr/>
          <p:nvPr/>
        </p:nvSpPr>
        <p:spPr>
          <a:xfrm>
            <a:off x="214200" y="1357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033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rcentuais para divisão da Am. do Norte e Caribe em zon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ço Reservado para Número de Slide 3"/>
          <p:cNvSpPr/>
          <p:nvPr/>
        </p:nvSpPr>
        <p:spPr>
          <a:xfrm>
            <a:off x="6553080" y="65008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281E-96AA-4FDE-BA5F-3D8236D559F6}" type="slidenum">
              <a:rPr b="1" lang="en-US" sz="1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143000" y="1571760"/>
          <a:ext cx="6095880" cy="3000240"/>
        </p:xfrm>
        <a:graphic>
          <a:graphicData uri="http://schemas.openxmlformats.org/drawingml/2006/table">
            <a:tbl>
              <a:tblPr/>
              <a:tblGrid>
                <a:gridCol w="1220760"/>
                <a:gridCol w="1219320"/>
                <a:gridCol w="1217520"/>
                <a:gridCol w="1219320"/>
                <a:gridCol w="1218960"/>
              </a:tblGrid>
              <a:tr h="500040"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lo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76091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ort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7609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ort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7609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es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es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5000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nad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i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033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incipais produtos de EXP e IMP – Paraguai e Per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ço Reservado para Número de Slide 3"/>
          <p:cNvSpPr/>
          <p:nvPr/>
        </p:nvSpPr>
        <p:spPr>
          <a:xfrm>
            <a:off x="6553080" y="65008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2A4C-EC7E-4528-B77E-AF0B4648E3F1}" type="slidenum">
              <a:rPr b="1" lang="en-US" sz="1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28760" y="857160"/>
          <a:ext cx="8215200" cy="4822920"/>
        </p:xfrm>
        <a:graphic>
          <a:graphicData uri="http://schemas.openxmlformats.org/drawingml/2006/table">
            <a:tbl>
              <a:tblPr/>
              <a:tblGrid>
                <a:gridCol w="873000"/>
                <a:gridCol w="1890720"/>
                <a:gridCol w="1235160"/>
                <a:gridCol w="716040"/>
                <a:gridCol w="1643040"/>
                <a:gridCol w="1214280"/>
                <a:gridCol w="642960"/>
              </a:tblGrid>
              <a:tr h="190440"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8b5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dade </a:t>
                      </a:r>
                      <a:br>
                        <a:rPr sz="12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il tonelad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8b54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dade </a:t>
                      </a:r>
                      <a:br>
                        <a:rPr sz="12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il tonelad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8b54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8b54"/>
                    </a:solidFill>
                  </a:tcPr>
                </a:tc>
              </a:tr>
              <a:tr h="737640">
                <a:tc row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gu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ENTES E FRUTOS OLEAGINOSOS,GRAOS, SEMENTES,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USTIVEIS MINERAIS,OLEOS MINERAIS,ETC.CERAS MINER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37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2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UBOS OU FERTILIZA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6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UOS E DESPERDICIOS DAS INDUSTRIAS ALIMENTARES,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2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,ENXOFRE,TERRAS E PEDRAS,GESSO,CAL E CI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738000">
                <a:tc rowSpan="4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ERIOS,ESCORIAS E CI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8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USTIVEIS MINERAIS,OLEOS MINERAIS,ETC.CERAS MINER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</a:tr>
              <a:tr h="73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USTIVEIS MINERAIS,OLEOS MINERAIS,ETC.CERAS MINER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</a:tr>
              <a:tr h="55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UOS E DESPERDICIOS DAS INDUSTRIAS ALIMENTARES,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RO FUNDIDO,FERRO E A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</a:tr>
              <a:tr h="55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,ENXOFRE,TERRAS E PEDRAS,GESSO,CAL E CI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UBOS OU FERTILIZA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033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incipais produtos de EXP e IMP – Bolívia e Urugua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ço Reservado para Número de Slide 3"/>
          <p:cNvSpPr/>
          <p:nvPr/>
        </p:nvSpPr>
        <p:spPr>
          <a:xfrm>
            <a:off x="6553080" y="65008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18AA-73C6-4F4F-9A9F-D13F24F1E7D4}" type="slidenum">
              <a:rPr b="1" lang="en-US" sz="1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14200" y="857160"/>
          <a:ext cx="8501040" cy="4929120"/>
        </p:xfrm>
        <a:graphic>
          <a:graphicData uri="http://schemas.openxmlformats.org/drawingml/2006/table">
            <a:tbl>
              <a:tblPr/>
              <a:tblGrid>
                <a:gridCol w="857520"/>
                <a:gridCol w="1714320"/>
                <a:gridCol w="1285920"/>
                <a:gridCol w="785880"/>
                <a:gridCol w="1928880"/>
                <a:gridCol w="1199880"/>
                <a:gridCol w="728640"/>
              </a:tblGrid>
              <a:tr h="206640"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8b5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dade </a:t>
                      </a:r>
                      <a:br>
                        <a:rPr sz="12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il tonelad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8b54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dade </a:t>
                      </a:r>
                      <a:br>
                        <a:rPr sz="12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il tonelad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8b54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8b54"/>
                    </a:solidFill>
                  </a:tcPr>
                </a:tc>
              </a:tr>
              <a:tr h="801360">
                <a:tc row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lí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USTIVEIS MINERAIS,OLEOS MINERAIS,ETC.CERAS MINER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5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USTIVEIS MINERAIS,OLEOS MINERAIS,ETC.CERAS MINER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4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ERIOS,ESCORIAS E CINZ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2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RRO FUNDIDO,FERRO </a:t>
                      </a:r>
                      <a:br>
                        <a:rPr sz="1200"/>
                      </a:b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 A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73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UOS E DESPERDICIOS DAS INDUSTRIAS ALIMENTARES,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ICULOS AUTOMOVEIS,TRATORES,ETC. SUAS PARTES/ACESSO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01720">
                <a:tc rowSpan="4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ugu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DEIRA,CARVAO VEGETAL E OBRAS DE MADEI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USTIVEIS MINERAIS,OLEOS MINERAIS,ETC.CERAS MINER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UBOS OU FERTILIZA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</a:tr>
              <a:tr h="6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ENTES E FRUTOS OLEAGINOSOS,GRAOS,SEMENTES,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UOS E DESPERDICIOS DAS INDUSTRIAS ALIMENTARES,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</a:tr>
              <a:tr h="60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,ENXOFRE,TERRAS E PEDRAS,GESSO,CAL E CI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,ENXOFRE,TERRAS E PEDRAS,GESSO,CAL E CI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5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033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. Introduçã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07172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 procedimento adotado para montar as matrizes origem-destino (OD) em toneladas seguiu as seguintes etap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dentificação de fontes de dados secundários com fluxos de exportação e importação 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em tonel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634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liceweb, Alice Mercosul, BID (DATAINTAL), Aduana Chile e várias out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dentificação de totais de controle de exportação e importação 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em tonel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lassificação dos pares Origem-Destino  (fluxos relevantes para o Corredor Bioceânic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eenchimento das células da Matriz de Total de Carga entre os pares OD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em tonel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álise de consistência entre as informações das fontes de dados e busca de novas fontes de dados secundários para entender e justificar discrepâncias encontradas e, em alguns pares OD, substituir os dados preenchidos inicialmente na matri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sagregação da matriz OD com total de carga nas matrizes OD por categoria de produto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634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ranel sólido vegetal, granel sólido mineral, granel sólido - outr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634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ranel líquido - petróleo e derivados, granel líquido - outr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1634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arga g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spaço Reservado para Número de Slide 3"/>
          <p:cNvSpPr/>
          <p:nvPr/>
        </p:nvSpPr>
        <p:spPr>
          <a:xfrm>
            <a:off x="6553080" y="65008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3E74-F3C5-4949-876B-203E7C8A498F}" type="slidenum">
              <a:rPr b="1" lang="en-US" sz="1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6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033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2. Fluxos Relevantes para o Corredor Bioceân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spaço Reservado para Número de Slide 3"/>
          <p:cNvSpPr/>
          <p:nvPr/>
        </p:nvSpPr>
        <p:spPr>
          <a:xfrm>
            <a:off x="6553080" y="65008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5565-4489-4BB8-AFF6-C3E62F026871}" type="slidenum">
              <a:rPr b="1" lang="en-US" sz="1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aixaDeTexto 7"/>
          <p:cNvSpPr/>
          <p:nvPr/>
        </p:nvSpPr>
        <p:spPr>
          <a:xfrm>
            <a:off x="6118200" y="1246320"/>
            <a:ext cx="30002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s diretrizes para montar a matriz OD a partir de dados secundários priorizam obter a maior precisão possível nos fluxos relevantes para o Corredor Bioceâ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ados sobre fluxos de carga entre pares OD com origem e destino em países por onde a ferrovia do Corredor Bioceânico passará têm maior precisão pois um número maior de fontes secundárias foi consultado para fazer análise de consistência e refinamento das quantidades (em toneladas) por par 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85840" y="1297080"/>
          <a:ext cx="5715000" cy="3429000"/>
        </p:xfrm>
        <a:graphic>
          <a:graphicData uri="http://schemas.openxmlformats.org/drawingml/2006/table">
            <a:tbl>
              <a:tblPr/>
              <a:tblGrid>
                <a:gridCol w="1360440"/>
                <a:gridCol w="1450800"/>
                <a:gridCol w="1452600"/>
                <a:gridCol w="1451160"/>
              </a:tblGrid>
              <a:tr h="411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RIZ ORIGEM-DESTI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TIN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E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es por onde a ferrovia do Corredor Bioceânico passar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os países da América Su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os paí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es por onde a ferrovia do Corredor Bioceânico passar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8b5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8b54"/>
                    </a:solidFill>
                  </a:tcPr>
                </a:tc>
              </a:tr>
              <a:tr h="801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os países da América Su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8b5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a452a"/>
                    </a:solidFill>
                  </a:tcPr>
                </a:tc>
              </a:tr>
              <a:tr h="801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os paí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48b5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7480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00040" y="4951440"/>
          <a:ext cx="3848040" cy="1214280"/>
        </p:xfrm>
        <a:graphic>
          <a:graphicData uri="http://schemas.openxmlformats.org/drawingml/2006/table">
            <a:tbl>
              <a:tblPr/>
              <a:tblGrid>
                <a:gridCol w="357120"/>
                <a:gridCol w="3490920"/>
              </a:tblGrid>
              <a:tr h="303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xos com maior potencial de dema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8b5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xos com potencial de dema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452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xos com algum potencial de dema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7480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xos Externos ao Corre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Elipse 8"/>
          <p:cNvSpPr/>
          <p:nvPr/>
        </p:nvSpPr>
        <p:spPr>
          <a:xfrm>
            <a:off x="2268360" y="2568600"/>
            <a:ext cx="212760" cy="212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lipse 13"/>
          <p:cNvSpPr/>
          <p:nvPr/>
        </p:nvSpPr>
        <p:spPr>
          <a:xfrm>
            <a:off x="3708360" y="2583000"/>
            <a:ext cx="212760" cy="212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o 14"/>
          <p:cNvSpPr/>
          <p:nvPr/>
        </p:nvSpPr>
        <p:spPr>
          <a:xfrm>
            <a:off x="3708360" y="2583000"/>
            <a:ext cx="212760" cy="212760"/>
          </a:xfrm>
          <a:custGeom>
            <a:avLst/>
            <a:gdLst>
              <a:gd name="textAreaLeft" fmla="*/ 106200 w 212760"/>
              <a:gd name="textAreaRight" fmla="*/ 213120 w 2127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stroke="0" w="212725" h="212725">
                <a:moveTo>
                  <a:pt x="106363" y="0"/>
                </a:moveTo>
                <a:lnTo>
                  <a:pt x="106363" y="0"/>
                </a:lnTo>
                <a:arcTo wR="106363" hR="106363" stAng="-5400000" swAng="10800000"/>
                <a:lnTo>
                  <a:pt x="106363" y="106363"/>
                </a:lnTo>
                <a:close/>
              </a:path>
              <a:path fill="none" w="212725" h="212725">
                <a:moveTo>
                  <a:pt x="106363" y="0"/>
                </a:moveTo>
                <a:lnTo>
                  <a:pt x="106363" y="0"/>
                </a:lnTo>
                <a:arcTo wR="106363" hR="106363" stAng="-5400000" swAng="10800000"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lipse 15"/>
          <p:cNvSpPr/>
          <p:nvPr/>
        </p:nvSpPr>
        <p:spPr>
          <a:xfrm>
            <a:off x="5148360" y="2568600"/>
            <a:ext cx="212760" cy="212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rco 16"/>
          <p:cNvSpPr/>
          <p:nvPr/>
        </p:nvSpPr>
        <p:spPr>
          <a:xfrm>
            <a:off x="5148360" y="2568600"/>
            <a:ext cx="212760" cy="212760"/>
          </a:xfrm>
          <a:custGeom>
            <a:avLst/>
            <a:gdLst>
              <a:gd name="textAreaLeft" fmla="*/ 106200 w 212760"/>
              <a:gd name="textAreaRight" fmla="*/ 213120 w 2127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stroke="0" w="212725" h="212725">
                <a:moveTo>
                  <a:pt x="106363" y="0"/>
                </a:moveTo>
                <a:lnTo>
                  <a:pt x="106363" y="0"/>
                </a:lnTo>
                <a:arcTo wR="106363" hR="106363" stAng="-5400000" swAng="10800000"/>
                <a:lnTo>
                  <a:pt x="106363" y="106363"/>
                </a:lnTo>
                <a:close/>
              </a:path>
              <a:path fill="none" w="212725" h="212725">
                <a:moveTo>
                  <a:pt x="106363" y="0"/>
                </a:moveTo>
                <a:lnTo>
                  <a:pt x="106363" y="0"/>
                </a:lnTo>
                <a:arcTo wR="106363" hR="106363" stAng="-5400000" swAng="10800000"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lipse 17"/>
          <p:cNvSpPr/>
          <p:nvPr/>
        </p:nvSpPr>
        <p:spPr>
          <a:xfrm>
            <a:off x="2281320" y="3394080"/>
            <a:ext cx="212760" cy="212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rco 18"/>
          <p:cNvSpPr/>
          <p:nvPr/>
        </p:nvSpPr>
        <p:spPr>
          <a:xfrm>
            <a:off x="2281320" y="3394080"/>
            <a:ext cx="212760" cy="212760"/>
          </a:xfrm>
          <a:custGeom>
            <a:avLst/>
            <a:gdLst>
              <a:gd name="textAreaLeft" fmla="*/ 106200 w 212760"/>
              <a:gd name="textAreaRight" fmla="*/ 213120 w 2127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stroke="0" w="212725" h="212725">
                <a:moveTo>
                  <a:pt x="106363" y="0"/>
                </a:moveTo>
                <a:lnTo>
                  <a:pt x="106363" y="0"/>
                </a:lnTo>
                <a:arcTo wR="106363" hR="106363" stAng="-5400000" swAng="10800000"/>
                <a:lnTo>
                  <a:pt x="106363" y="106363"/>
                </a:lnTo>
                <a:close/>
              </a:path>
              <a:path fill="none" w="212725" h="212725">
                <a:moveTo>
                  <a:pt x="106363" y="0"/>
                </a:moveTo>
                <a:lnTo>
                  <a:pt x="106363" y="0"/>
                </a:lnTo>
                <a:arcTo wR="106363" hR="106363" stAng="-5400000" swAng="10800000"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lipse 19"/>
          <p:cNvSpPr/>
          <p:nvPr/>
        </p:nvSpPr>
        <p:spPr>
          <a:xfrm>
            <a:off x="2281320" y="4194000"/>
            <a:ext cx="212760" cy="212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rco 20"/>
          <p:cNvSpPr/>
          <p:nvPr/>
        </p:nvSpPr>
        <p:spPr>
          <a:xfrm>
            <a:off x="2281320" y="4194000"/>
            <a:ext cx="212760" cy="212760"/>
          </a:xfrm>
          <a:custGeom>
            <a:avLst/>
            <a:gdLst>
              <a:gd name="textAreaLeft" fmla="*/ 106200 w 212760"/>
              <a:gd name="textAreaRight" fmla="*/ 213120 w 2127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stroke="0" w="212725" h="212725">
                <a:moveTo>
                  <a:pt x="106363" y="0"/>
                </a:moveTo>
                <a:lnTo>
                  <a:pt x="106363" y="0"/>
                </a:lnTo>
                <a:arcTo wR="106363" hR="106363" stAng="-5400000" swAng="10800000"/>
                <a:lnTo>
                  <a:pt x="106363" y="106363"/>
                </a:lnTo>
                <a:close/>
              </a:path>
              <a:path fill="none" w="212725" h="212725">
                <a:moveTo>
                  <a:pt x="106363" y="0"/>
                </a:moveTo>
                <a:lnTo>
                  <a:pt x="106363" y="0"/>
                </a:lnTo>
                <a:arcTo wR="106363" hR="106363" stAng="-5400000" swAng="10800000"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Elipse 21"/>
          <p:cNvSpPr/>
          <p:nvPr/>
        </p:nvSpPr>
        <p:spPr>
          <a:xfrm>
            <a:off x="3708360" y="3394080"/>
            <a:ext cx="212760" cy="212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rco 22"/>
          <p:cNvSpPr/>
          <p:nvPr/>
        </p:nvSpPr>
        <p:spPr>
          <a:xfrm>
            <a:off x="3708360" y="3394080"/>
            <a:ext cx="212760" cy="212760"/>
          </a:xfrm>
          <a:custGeom>
            <a:avLst/>
            <a:gdLst>
              <a:gd name="textAreaLeft" fmla="*/ 106560 w 212760"/>
              <a:gd name="textAreaRight" fmla="*/ 213120 w 212760"/>
              <a:gd name="textAreaTop" fmla="*/ 0 h 212760"/>
              <a:gd name="textAreaBottom" fmla="*/ 106560 h 212760"/>
            </a:gdLst>
            <a:ahLst/>
            <a:rect l="textAreaLeft" t="textAreaTop" r="textAreaRight" b="textAreaBottom"/>
            <a:pathLst>
              <a:path stroke="0" w="212725" h="212725">
                <a:moveTo>
                  <a:pt x="106363" y="0"/>
                </a:moveTo>
                <a:lnTo>
                  <a:pt x="106363" y="0"/>
                </a:lnTo>
                <a:arcTo wR="106363" hR="106363" stAng="-5400000" swAng="5400000"/>
                <a:lnTo>
                  <a:pt x="106363" y="106363"/>
                </a:lnTo>
                <a:close/>
              </a:path>
              <a:path fill="none" w="212725" h="212725">
                <a:moveTo>
                  <a:pt x="106363" y="0"/>
                </a:moveTo>
                <a:lnTo>
                  <a:pt x="106363" y="0"/>
                </a:lnTo>
                <a:arcTo wR="106363" hR="106363" stAng="-5400000" swAng="5400000"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lipse 23"/>
          <p:cNvSpPr/>
          <p:nvPr/>
        </p:nvSpPr>
        <p:spPr>
          <a:xfrm>
            <a:off x="3741840" y="4224240"/>
            <a:ext cx="212760" cy="212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rco 24"/>
          <p:cNvSpPr/>
          <p:nvPr/>
        </p:nvSpPr>
        <p:spPr>
          <a:xfrm>
            <a:off x="3741840" y="4224240"/>
            <a:ext cx="212760" cy="212760"/>
          </a:xfrm>
          <a:custGeom>
            <a:avLst/>
            <a:gdLst>
              <a:gd name="textAreaLeft" fmla="*/ 106560 w 212760"/>
              <a:gd name="textAreaRight" fmla="*/ 213120 w 212760"/>
              <a:gd name="textAreaTop" fmla="*/ 0 h 212760"/>
              <a:gd name="textAreaBottom" fmla="*/ 106560 h 212760"/>
            </a:gdLst>
            <a:ahLst/>
            <a:rect l="textAreaLeft" t="textAreaTop" r="textAreaRight" b="textAreaBottom"/>
            <a:pathLst>
              <a:path stroke="0" w="212725" h="212725">
                <a:moveTo>
                  <a:pt x="106363" y="0"/>
                </a:moveTo>
                <a:lnTo>
                  <a:pt x="106363" y="0"/>
                </a:lnTo>
                <a:arcTo wR="106363" hR="106363" stAng="-5400000" swAng="5400000"/>
                <a:lnTo>
                  <a:pt x="106363" y="106363"/>
                </a:lnTo>
                <a:close/>
              </a:path>
              <a:path fill="none" w="212725" h="212725">
                <a:moveTo>
                  <a:pt x="106363" y="0"/>
                </a:moveTo>
                <a:lnTo>
                  <a:pt x="106363" y="0"/>
                </a:lnTo>
                <a:arcTo wR="106363" hR="106363" stAng="-5400000" swAng="5400000"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lipse 25"/>
          <p:cNvSpPr/>
          <p:nvPr/>
        </p:nvSpPr>
        <p:spPr>
          <a:xfrm>
            <a:off x="5148360" y="3421080"/>
            <a:ext cx="212760" cy="212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rco 26"/>
          <p:cNvSpPr/>
          <p:nvPr/>
        </p:nvSpPr>
        <p:spPr>
          <a:xfrm>
            <a:off x="5148360" y="3421080"/>
            <a:ext cx="212760" cy="212760"/>
          </a:xfrm>
          <a:custGeom>
            <a:avLst/>
            <a:gdLst>
              <a:gd name="textAreaLeft" fmla="*/ 106560 w 212760"/>
              <a:gd name="textAreaRight" fmla="*/ 213120 w 212760"/>
              <a:gd name="textAreaTop" fmla="*/ 0 h 212760"/>
              <a:gd name="textAreaBottom" fmla="*/ 106560 h 212760"/>
            </a:gdLst>
            <a:ahLst/>
            <a:rect l="textAreaLeft" t="textAreaTop" r="textAreaRight" b="textAreaBottom"/>
            <a:pathLst>
              <a:path stroke="0" w="212725" h="212725">
                <a:moveTo>
                  <a:pt x="106363" y="0"/>
                </a:moveTo>
                <a:lnTo>
                  <a:pt x="106363" y="0"/>
                </a:lnTo>
                <a:arcTo wR="106363" hR="106363" stAng="-5400000" swAng="5400000"/>
                <a:lnTo>
                  <a:pt x="106363" y="106363"/>
                </a:lnTo>
                <a:close/>
              </a:path>
              <a:path fill="none" w="212725" h="212725">
                <a:moveTo>
                  <a:pt x="106363" y="0"/>
                </a:moveTo>
                <a:lnTo>
                  <a:pt x="106363" y="0"/>
                </a:lnTo>
                <a:arcTo wR="106363" hR="106363" stAng="-5400000" swAng="5400000"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lipse 27"/>
          <p:cNvSpPr/>
          <p:nvPr/>
        </p:nvSpPr>
        <p:spPr>
          <a:xfrm>
            <a:off x="5173560" y="4224240"/>
            <a:ext cx="212760" cy="212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lipse 29"/>
          <p:cNvSpPr/>
          <p:nvPr/>
        </p:nvSpPr>
        <p:spPr>
          <a:xfrm>
            <a:off x="566640" y="4983120"/>
            <a:ext cx="18108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lipse 31"/>
          <p:cNvSpPr/>
          <p:nvPr/>
        </p:nvSpPr>
        <p:spPr>
          <a:xfrm>
            <a:off x="566640" y="529920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rco 32"/>
          <p:cNvSpPr/>
          <p:nvPr/>
        </p:nvSpPr>
        <p:spPr>
          <a:xfrm>
            <a:off x="566640" y="5299200"/>
            <a:ext cx="181080" cy="180720"/>
          </a:xfrm>
          <a:custGeom>
            <a:avLst/>
            <a:gdLst>
              <a:gd name="textAreaLeft" fmla="*/ 90360 w 181080"/>
              <a:gd name="textAreaRight" fmla="*/ 181440 w 18108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stroke="0" w="180975" h="180975">
                <a:moveTo>
                  <a:pt x="90488" y="0"/>
                </a:moveTo>
                <a:lnTo>
                  <a:pt x="90488" y="0"/>
                </a:lnTo>
                <a:arcTo wR="90488" hR="90488" stAng="-5400000" swAng="10800000"/>
                <a:lnTo>
                  <a:pt x="90488" y="90488"/>
                </a:lnTo>
                <a:close/>
              </a:path>
              <a:path fill="none" w="180975" h="180975">
                <a:moveTo>
                  <a:pt x="90488" y="0"/>
                </a:moveTo>
                <a:lnTo>
                  <a:pt x="90488" y="0"/>
                </a:lnTo>
                <a:arcTo wR="90488" hR="90488" stAng="-5400000" swAng="10800000"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lipse 33"/>
          <p:cNvSpPr/>
          <p:nvPr/>
        </p:nvSpPr>
        <p:spPr>
          <a:xfrm>
            <a:off x="566640" y="5614920"/>
            <a:ext cx="1810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rco 34"/>
          <p:cNvSpPr/>
          <p:nvPr/>
        </p:nvSpPr>
        <p:spPr>
          <a:xfrm>
            <a:off x="566640" y="5614920"/>
            <a:ext cx="181080" cy="181080"/>
          </a:xfrm>
          <a:custGeom>
            <a:avLst/>
            <a:gdLst>
              <a:gd name="textAreaLeft" fmla="*/ 90720 w 181080"/>
              <a:gd name="textAreaRight" fmla="*/ 181440 w 181080"/>
              <a:gd name="textAreaTop" fmla="*/ 0 h 181080"/>
              <a:gd name="textAreaBottom" fmla="*/ 90720 h 181080"/>
            </a:gdLst>
            <a:ahLst/>
            <a:rect l="textAreaLeft" t="textAreaTop" r="textAreaRight" b="textAreaBottom"/>
            <a:pathLst>
              <a:path stroke="0" w="180975" h="180975">
                <a:moveTo>
                  <a:pt x="90488" y="0"/>
                </a:moveTo>
                <a:lnTo>
                  <a:pt x="90488" y="0"/>
                </a:lnTo>
                <a:arcTo wR="90488" hR="90488" stAng="-5400000" swAng="5400000"/>
                <a:lnTo>
                  <a:pt x="90488" y="90488"/>
                </a:lnTo>
                <a:close/>
              </a:path>
              <a:path fill="none" w="180975" h="180975">
                <a:moveTo>
                  <a:pt x="90488" y="0"/>
                </a:moveTo>
                <a:lnTo>
                  <a:pt x="90488" y="0"/>
                </a:lnTo>
                <a:arcTo wR="90488" hR="90488" stAng="-5400000" swAng="5400000"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lipse 35"/>
          <p:cNvSpPr/>
          <p:nvPr/>
        </p:nvSpPr>
        <p:spPr>
          <a:xfrm>
            <a:off x="566640" y="5904000"/>
            <a:ext cx="181080" cy="18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ave direita 37"/>
          <p:cNvSpPr/>
          <p:nvPr/>
        </p:nvSpPr>
        <p:spPr>
          <a:xfrm>
            <a:off x="3857760" y="5000760"/>
            <a:ext cx="142920" cy="785520"/>
          </a:xfrm>
          <a:custGeom>
            <a:avLst/>
            <a:gdLst>
              <a:gd name="textAreaLeft" fmla="*/ 0 w 142920"/>
              <a:gd name="textAreaRight" fmla="*/ 51480 w 142920"/>
              <a:gd name="textAreaTop" fmla="*/ 3600 h 785520"/>
              <a:gd name="textAreaBottom" fmla="*/ 781920 h 78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4"/>
                  <a:pt x="10800" y="327"/>
                </a:cubicBezTo>
                <a:lnTo>
                  <a:pt x="10800" y="10473"/>
                </a:lnTo>
                <a:cubicBezTo>
                  <a:pt x="10800" y="10637"/>
                  <a:pt x="16200" y="10800"/>
                  <a:pt x="21600" y="10800"/>
                </a:cubicBezTo>
                <a:cubicBezTo>
                  <a:pt x="16200" y="10800"/>
                  <a:pt x="10800" y="10964"/>
                  <a:pt x="10800" y="11127"/>
                </a:cubicBezTo>
                <a:lnTo>
                  <a:pt x="10800" y="21273"/>
                </a:lnTo>
                <a:cubicBezTo>
                  <a:pt x="10800" y="21437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38"/>
          <p:cNvSpPr/>
          <p:nvPr/>
        </p:nvSpPr>
        <p:spPr>
          <a:xfrm>
            <a:off x="4059360" y="520236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luxos Relev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033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. Estimativa da Matriz OD com Total de Carga (toneladas) -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ço Reservado para Número de Slide 3"/>
          <p:cNvSpPr/>
          <p:nvPr/>
        </p:nvSpPr>
        <p:spPr>
          <a:xfrm>
            <a:off x="6553080" y="65008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820E-6240-471E-8F12-D0E7CC06192D}" type="slidenum">
              <a:rPr b="1" lang="en-US" sz="1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285840" y="766800"/>
            <a:ext cx="6357960" cy="547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6786720" y="1285920"/>
          <a:ext cx="2246040" cy="2124000"/>
        </p:xfrm>
        <a:graphic>
          <a:graphicData uri="http://schemas.openxmlformats.org/drawingml/2006/table">
            <a:tbl>
              <a:tblPr/>
              <a:tblGrid>
                <a:gridCol w="1571400"/>
                <a:gridCol w="674640"/>
              </a:tblGrid>
              <a:tr h="218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tes de D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l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CEWE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CEWEB MERCOSU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75923c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E Bolí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EI - EQ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a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ab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ICEX PE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ad2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fad21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PORT 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6d0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46d0a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E - 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EA - VENEZUE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f64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af64c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TÍSTICAS DOS PORT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3f0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d3f0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786720" y="3714840"/>
          <a:ext cx="2143080" cy="2124000"/>
        </p:xfrm>
        <a:graphic>
          <a:graphicData uri="http://schemas.openxmlformats.org/drawingml/2006/table">
            <a:tbl>
              <a:tblPr/>
              <a:tblGrid>
                <a:gridCol w="428400"/>
                <a:gridCol w="1000080"/>
                <a:gridCol w="714600"/>
              </a:tblGrid>
              <a:tr h="21888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pt-BR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de pares OD (21 X 2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2d6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c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5923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5923c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a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a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ab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ad2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ad2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ad21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46d0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46d0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46d0a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/>
                    </a:solidFill>
                  </a:tcPr>
                </a:tc>
              </a:tr>
              <a:tr h="1908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f64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f64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af64c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3f0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3f0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3f07"/>
                    </a:solidFill>
                  </a:tcPr>
                </a:tc>
              </a:tr>
            </a:tbl>
          </a:graphicData>
        </a:graphic>
      </p:graphicFrame>
      <p:sp>
        <p:nvSpPr>
          <p:cNvPr id="139" name="Seta para cima 12"/>
          <p:cNvSpPr/>
          <p:nvPr/>
        </p:nvSpPr>
        <p:spPr>
          <a:xfrm>
            <a:off x="3286080" y="6215040"/>
            <a:ext cx="142920" cy="142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76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eta para cima 13"/>
          <p:cNvSpPr/>
          <p:nvPr/>
        </p:nvSpPr>
        <p:spPr>
          <a:xfrm>
            <a:off x="3857760" y="6215040"/>
            <a:ext cx="142920" cy="142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76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eta para cima 14"/>
          <p:cNvSpPr/>
          <p:nvPr/>
        </p:nvSpPr>
        <p:spPr>
          <a:xfrm>
            <a:off x="4071960" y="6215040"/>
            <a:ext cx="142920" cy="142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376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e 15"/>
          <p:cNvSpPr/>
          <p:nvPr/>
        </p:nvSpPr>
        <p:spPr>
          <a:xfrm>
            <a:off x="8631360" y="4294080"/>
            <a:ext cx="357120" cy="622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033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4. Desagregação da Matriz OD Total: Matrizes por tipo de carg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ço Reservado para Número de Slide 3"/>
          <p:cNvSpPr/>
          <p:nvPr/>
        </p:nvSpPr>
        <p:spPr>
          <a:xfrm>
            <a:off x="6553080" y="65008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328B-2FF7-406D-A49E-6DB7757D4D11}" type="slidenum">
              <a:rPr b="1" lang="en-US" sz="1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6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6786360" cy="547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7286760" y="2071800"/>
          <a:ext cx="1857240" cy="2270160"/>
        </p:xfrm>
        <a:graphic>
          <a:graphicData uri="http://schemas.openxmlformats.org/drawingml/2006/table">
            <a:tbl>
              <a:tblPr/>
              <a:tblGrid>
                <a:gridCol w="412560"/>
                <a:gridCol w="1444680"/>
              </a:tblGrid>
              <a:tr h="34596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os Dados Obt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to</a:t>
                      </a:r>
                      <a:r>
                        <a:rPr b="0" lang="pt-BR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 </a:t>
                      </a:r>
                      <a:r>
                        <a:rPr b="1" lang="pt-BR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D (99 Capítulos NC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9795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to </a:t>
                      </a:r>
                      <a:r>
                        <a:rPr b="1" lang="pt-BR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ou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D (99 Capítulos NC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53735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or seção NCM (21 seções + combustívei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32523"/>
                    </a:solidFill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ção por Grandes Grupos de Produtos (Granéis Sólidos e Líquidos, Carga Geral, Contein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033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triz Origem-Destino com Total de Carga 2008 – Mil tonelad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ço Reservado para Número de Slide 3"/>
          <p:cNvSpPr/>
          <p:nvPr/>
        </p:nvSpPr>
        <p:spPr>
          <a:xfrm>
            <a:off x="6553080" y="65008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AB19-98C3-4A00-98BB-F8B64A654BF1}" type="slidenum">
              <a:rPr b="1" lang="en-US" sz="1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2600" y="642960"/>
            <a:ext cx="9144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033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5. Diretriz para o zoneamento: principais pólos de produção e consum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 zoneamento adotado representará os principais pólos de produção e consumo de produtos com potencial para transporte ferroviário da forma mais desagregada 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possível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, em função 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isponibilidade de dados de fontes secundá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rau de necessidade de representação dos fluxos com potencial ferroviário entre os pares Origem-Destino na área de influência do Corredor Bioceâ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incipais pólos de produção/atração de demand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r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randes centros urba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giões de produção agroindus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ndústrias/Regiões industri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ço Reservado para Número de Slide 3"/>
          <p:cNvSpPr/>
          <p:nvPr/>
        </p:nvSpPr>
        <p:spPr>
          <a:xfrm>
            <a:off x="6553080" y="65008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61A8-D697-4C4C-9299-CF85F7099F00}" type="slidenum">
              <a:rPr b="1" lang="en-US" sz="1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1680"/>
            <a:ext cx="9144000" cy="6033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IB e População no zoneamento atu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ço Reservado para Número de Slide 3"/>
          <p:cNvSpPr/>
          <p:nvPr/>
        </p:nvSpPr>
        <p:spPr>
          <a:xfrm>
            <a:off x="6553080" y="6500880"/>
            <a:ext cx="2133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D459-490C-4787-B6BF-C900C7EAA09F}" type="slidenum">
              <a:rPr b="1" lang="en-US" sz="11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85840" y="857160"/>
          <a:ext cx="8501040" cy="4643640"/>
        </p:xfrm>
        <a:graphic>
          <a:graphicData uri="http://schemas.openxmlformats.org/drawingml/2006/table">
            <a:tbl>
              <a:tblPr/>
              <a:tblGrid>
                <a:gridCol w="677880"/>
                <a:gridCol w="2509560"/>
                <a:gridCol w="1063800"/>
                <a:gridCol w="849240"/>
                <a:gridCol w="708120"/>
                <a:gridCol w="1063440"/>
                <a:gridCol w="849600"/>
                <a:gridCol w="779400"/>
              </a:tblGrid>
              <a:tr h="201960"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o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75d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u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75d"/>
                    </a:solidFill>
                  </a:tcPr>
                </a:tc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75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7375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B </a:t>
                      </a:r>
                      <a:br>
                        <a:rPr sz="1100"/>
                      </a:b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 US$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Mund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Am Su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ção </a:t>
                      </a:r>
                      <a:br>
                        <a:rPr sz="1100"/>
                      </a:b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il Pessoa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Mund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Am Su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1"/>
                    </a:solidFill>
                  </a:tcPr>
                </a:tc>
              </a:tr>
              <a:tr h="2016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S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1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.56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ENT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13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I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8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0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33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3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4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1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GU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6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ZUELA E GUIAN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96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 DO NORTE - LES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4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.1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3427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 DO NORTE - LESTE/OES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1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.37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9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 LES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5.99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 OES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8.06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9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A E OCE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0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96.05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0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6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47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8.08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4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9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880"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 MUNDI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.698.6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79.639.3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8360"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MÉRICA DO SU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43.71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7.940.43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2:48:54Z</dcterms:created>
  <dc:creator>Monteiros</dc:creator>
  <dc:description/>
  <dc:language>en-US</dc:language>
  <cp:lastModifiedBy>Monteiros</cp:lastModifiedBy>
  <dcterms:modified xsi:type="dcterms:W3CDTF">2010-03-16T04:15:09Z</dcterms:modified>
  <cp:revision>1444</cp:revision>
  <dc:subject/>
  <dc:title>Slide 1</dc:title>
</cp:coreProperties>
</file>